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38080" cy="6845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080" y="612720"/>
            <a:ext cx="909324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560" y="681120"/>
            <a:ext cx="9080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560" y="6305400"/>
            <a:ext cx="9080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384960"/>
            <a:ext cx="9093240" cy="0"/>
          </a:xfrm>
          <a:prstGeom prst="line">
            <a:avLst/>
          </a:prstGeom>
          <a:ln w="381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0" y="64310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60f9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b760f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7a5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b7a5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18ff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618ffd"/>
              </a:buClr>
              <a:buSzPct val="6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b760f9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71720" y="5049720"/>
            <a:ext cx="57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52760" y="5049720"/>
            <a:ext cx="550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47720" y="5326200"/>
            <a:ext cx="3492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2200" y="7618320"/>
            <a:ext cx="1814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90960" y="7618320"/>
            <a:ext cx="1438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4440" y="299880"/>
            <a:ext cx="933120" cy="1096920"/>
            <a:chOff x="514440" y="299880"/>
            <a:chExt cx="933120" cy="1096920"/>
          </a:xfrm>
        </p:grpSpPr>
        <p:sp>
          <p:nvSpPr>
            <p:cNvPr id="50" name=""/>
            <p:cNvSpPr/>
            <p:nvPr/>
          </p:nvSpPr>
          <p:spPr>
            <a:xfrm>
              <a:off x="578880" y="299880"/>
              <a:ext cx="778320" cy="95688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8880" y="299880"/>
              <a:ext cx="788400" cy="9662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7480" y="328680"/>
              <a:ext cx="329400" cy="84708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8200" y="343080"/>
              <a:ext cx="149760" cy="19584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60840" y="386280"/>
              <a:ext cx="18720" cy="5580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64440" y="398880"/>
              <a:ext cx="11520" cy="3420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4400" y="407880"/>
              <a:ext cx="5040" cy="2880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2960" y="418680"/>
              <a:ext cx="864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5480" y="430920"/>
              <a:ext cx="17280" cy="576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0520" y="439920"/>
              <a:ext cx="10440" cy="3420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1320" y="452520"/>
              <a:ext cx="88920" cy="864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25640" y="551880"/>
              <a:ext cx="17280" cy="86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50120" y="551880"/>
              <a:ext cx="10080" cy="86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4160" y="551880"/>
              <a:ext cx="13680" cy="86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5040" y="551880"/>
              <a:ext cx="120240" cy="864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20240" y="577080"/>
              <a:ext cx="32760" cy="864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4160" y="577080"/>
              <a:ext cx="25920" cy="86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040" y="577080"/>
              <a:ext cx="69480" cy="864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8480" y="577080"/>
              <a:ext cx="41760" cy="864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5040" y="600480"/>
              <a:ext cx="133920" cy="1382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38160" y="627120"/>
              <a:ext cx="5400" cy="1094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64440" y="628920"/>
              <a:ext cx="11520" cy="1206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02960" y="632520"/>
              <a:ext cx="5040" cy="10044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5480" y="636120"/>
              <a:ext cx="3240" cy="9684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82080" y="742320"/>
              <a:ext cx="123840" cy="28044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0240" y="748080"/>
              <a:ext cx="172800" cy="20304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85680" y="781920"/>
              <a:ext cx="78120" cy="21024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6960" y="785520"/>
              <a:ext cx="141120" cy="1418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31320" y="803520"/>
              <a:ext cx="59040" cy="15804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2520" y="915120"/>
              <a:ext cx="149760" cy="154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5040" y="974520"/>
              <a:ext cx="141120" cy="19584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4360" y="974520"/>
              <a:ext cx="87120" cy="8100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9040" y="1080360"/>
              <a:ext cx="8640" cy="3780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9240" y="758520"/>
              <a:ext cx="149760" cy="18720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94320" y="758520"/>
              <a:ext cx="99000" cy="25344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39960" y="807120"/>
              <a:ext cx="68040" cy="14184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0" y="924120"/>
              <a:ext cx="124200" cy="11664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7640" y="979560"/>
              <a:ext cx="114840" cy="17964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51560" y="983160"/>
              <a:ext cx="62640" cy="5040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6640" y="796680"/>
              <a:ext cx="6840" cy="2844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0520" y="796680"/>
              <a:ext cx="3240" cy="2304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6200" y="796680"/>
              <a:ext cx="68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26280" y="794520"/>
              <a:ext cx="8640" cy="72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06200" y="877320"/>
              <a:ext cx="6840" cy="252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31320" y="900360"/>
              <a:ext cx="864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3920" y="943920"/>
              <a:ext cx="41760" cy="4464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8400" y="952560"/>
              <a:ext cx="24480" cy="378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8840" y="960120"/>
              <a:ext cx="20880" cy="3420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280" y="978120"/>
              <a:ext cx="170640" cy="15264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7520" y="979560"/>
              <a:ext cx="45360" cy="482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160" y="1012320"/>
              <a:ext cx="45360" cy="1076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6760" y="1060920"/>
              <a:ext cx="19080" cy="446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3920" y="1062360"/>
              <a:ext cx="41760" cy="594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1400" y="1071360"/>
              <a:ext cx="29520" cy="468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5000" y="1074960"/>
              <a:ext cx="43200" cy="536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2000" y="1080360"/>
              <a:ext cx="24480" cy="504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2280" y="1095120"/>
              <a:ext cx="3636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5680" y="1098360"/>
              <a:ext cx="30960" cy="522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7320" y="1101960"/>
              <a:ext cx="34560" cy="35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4960" y="1105560"/>
              <a:ext cx="20880" cy="16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2280" y="1105560"/>
              <a:ext cx="1872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560" y="1114560"/>
              <a:ext cx="27360" cy="28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120" y="1118520"/>
              <a:ext cx="24120" cy="41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7000" y="1128960"/>
              <a:ext cx="331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97320" y="1128960"/>
              <a:ext cx="17280" cy="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78240" y="1143720"/>
              <a:ext cx="20880" cy="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8240" y="1143720"/>
              <a:ext cx="40320" cy="424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42800" y="947520"/>
              <a:ext cx="31320" cy="522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22280" y="948960"/>
              <a:ext cx="29520" cy="432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11480" y="960120"/>
              <a:ext cx="34560" cy="392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01400" y="97452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07880" y="978120"/>
              <a:ext cx="20880" cy="230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4240" y="985320"/>
              <a:ext cx="181080" cy="15084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8680" y="988560"/>
              <a:ext cx="45000" cy="45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4480" y="1021320"/>
              <a:ext cx="50400" cy="8424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3560" y="1057320"/>
              <a:ext cx="12240" cy="216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720" y="1071360"/>
              <a:ext cx="24480" cy="342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44960" y="1069920"/>
              <a:ext cx="15480" cy="216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3600" y="1073520"/>
              <a:ext cx="8640" cy="104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27320" y="1073520"/>
              <a:ext cx="25920" cy="356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8560" y="1080360"/>
              <a:ext cx="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5600" y="1078920"/>
              <a:ext cx="32760" cy="432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0120" y="1078920"/>
              <a:ext cx="2592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29760" y="1078920"/>
              <a:ext cx="46800" cy="5724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6880" y="1082520"/>
              <a:ext cx="28080" cy="3924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11480" y="1089360"/>
              <a:ext cx="1908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2560" y="1092960"/>
              <a:ext cx="33120" cy="34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87000" y="1092960"/>
              <a:ext cx="50400" cy="662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21120" y="1101960"/>
              <a:ext cx="39960" cy="392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7520" y="1105560"/>
              <a:ext cx="34560" cy="35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30920" y="1118520"/>
              <a:ext cx="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7520" y="1116360"/>
              <a:ext cx="25920" cy="288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0880" y="1116360"/>
              <a:ext cx="57600" cy="936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5720" y="1123560"/>
              <a:ext cx="13680" cy="17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360" y="1127160"/>
              <a:ext cx="28080" cy="356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61080" y="1136160"/>
              <a:ext cx="33120" cy="34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9760" y="1145160"/>
              <a:ext cx="54000" cy="392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91760" y="1152720"/>
              <a:ext cx="29520" cy="35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4440" y="1082520"/>
              <a:ext cx="933120" cy="31428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4880" y="952560"/>
              <a:ext cx="8640" cy="4140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62640" y="957960"/>
              <a:ext cx="6840" cy="252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5680" y="961560"/>
              <a:ext cx="5040" cy="2520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54000" y="965520"/>
              <a:ext cx="5040" cy="108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4320" y="969120"/>
              <a:ext cx="2880" cy="86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240" y="978120"/>
              <a:ext cx="97560" cy="1022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33360" y="978120"/>
              <a:ext cx="86760" cy="932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3360" y="978120"/>
              <a:ext cx="99000" cy="1022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920" y="1086120"/>
              <a:ext cx="266400" cy="17784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5760" y="1104120"/>
              <a:ext cx="268560" cy="16164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7640" y="1001160"/>
              <a:ext cx="83160" cy="1274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1280" y="1074960"/>
              <a:ext cx="6840" cy="4464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920" y="1082520"/>
              <a:ext cx="8640" cy="356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7120" y="1092960"/>
              <a:ext cx="10080" cy="140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2200" y="1095120"/>
              <a:ext cx="8640" cy="11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440" y="1148760"/>
              <a:ext cx="43200" cy="216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800" y="1179360"/>
              <a:ext cx="68040" cy="2160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4720" y="1209960"/>
              <a:ext cx="64440" cy="500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1400" y="1227960"/>
              <a:ext cx="36360" cy="1404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920" y="1253520"/>
              <a:ext cx="55440" cy="3744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560" y="1245960"/>
              <a:ext cx="57240" cy="6480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4360" y="1275120"/>
              <a:ext cx="52200" cy="55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360" y="1281960"/>
              <a:ext cx="29520" cy="5364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6880" y="1287360"/>
              <a:ext cx="45000" cy="1260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9680" y="1305720"/>
              <a:ext cx="52200" cy="356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7640" y="1294560"/>
              <a:ext cx="46800" cy="5364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73440" y="1298160"/>
              <a:ext cx="46800" cy="720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78480" y="1314360"/>
              <a:ext cx="54000" cy="33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4280" y="1289160"/>
              <a:ext cx="52200" cy="57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600" y="1184760"/>
              <a:ext cx="39960" cy="16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7240" y="1262160"/>
              <a:ext cx="74880" cy="680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05280" y="1253520"/>
              <a:ext cx="38160" cy="536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9760" y="1238760"/>
              <a:ext cx="59040" cy="572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78360" y="1217160"/>
              <a:ext cx="43920" cy="55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02840" y="1188360"/>
              <a:ext cx="55440" cy="6480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42800" y="1179360"/>
              <a:ext cx="50400" cy="536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10960" y="548280"/>
              <a:ext cx="181440" cy="1692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10960" y="548280"/>
              <a:ext cx="193320" cy="17964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8280" y="548280"/>
              <a:ext cx="179640" cy="1692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8280" y="548280"/>
              <a:ext cx="190080" cy="17964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9200" y="799920"/>
              <a:ext cx="34560" cy="1206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22040" y="799920"/>
              <a:ext cx="24480" cy="11844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696080" y="299880"/>
            <a:ext cx="987480" cy="1147680"/>
            <a:chOff x="7696080" y="299880"/>
            <a:chExt cx="987480" cy="1147680"/>
          </a:xfrm>
        </p:grpSpPr>
        <p:sp>
          <p:nvSpPr>
            <p:cNvPr id="192" name=""/>
            <p:cNvSpPr/>
            <p:nvPr/>
          </p:nvSpPr>
          <p:spPr>
            <a:xfrm>
              <a:off x="7815240" y="299880"/>
              <a:ext cx="750600" cy="90792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29280" y="320400"/>
              <a:ext cx="725760" cy="87480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38920" y="844200"/>
              <a:ext cx="108000" cy="16524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96080" y="1099800"/>
              <a:ext cx="142920" cy="18720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65920" y="1164960"/>
              <a:ext cx="60120" cy="680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0600" y="1160280"/>
              <a:ext cx="168480" cy="16488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11920" y="1255320"/>
              <a:ext cx="458640" cy="18252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81640" y="1363320"/>
              <a:ext cx="65160" cy="3168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0200" y="1314000"/>
              <a:ext cx="227160" cy="13356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45440" y="1355400"/>
              <a:ext cx="63360" cy="349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11960" y="1253880"/>
              <a:ext cx="455760" cy="18576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39120" y="1152360"/>
              <a:ext cx="171360" cy="17280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40560" y="948960"/>
              <a:ext cx="196920" cy="27936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57920" y="1160280"/>
              <a:ext cx="5868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50000" y="1110960"/>
              <a:ext cx="133560" cy="17604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46840" y="956880"/>
              <a:ext cx="196920" cy="2714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7400" y="842760"/>
              <a:ext cx="106200" cy="16164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37400" y="902880"/>
              <a:ext cx="47520" cy="1270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7600" y="907560"/>
              <a:ext cx="49320" cy="1335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46840" y="1329840"/>
              <a:ext cx="4680" cy="3348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8520" y="1350720"/>
              <a:ext cx="4680" cy="3168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18120" y="1363320"/>
              <a:ext cx="3240" cy="316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9520" y="1356840"/>
              <a:ext cx="3240" cy="334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5600" y="1341000"/>
              <a:ext cx="3240" cy="334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67520" y="1323720"/>
              <a:ext cx="4680" cy="316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08920" y="1309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70840" y="1290240"/>
              <a:ext cx="2880" cy="3168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11880" y="1296720"/>
              <a:ext cx="3240" cy="316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0640" y="1298160"/>
              <a:ext cx="3240" cy="302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16720" y="1298160"/>
              <a:ext cx="1440" cy="302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9800" y="1317240"/>
              <a:ext cx="4680" cy="3168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31200" y="1329840"/>
              <a:ext cx="1440" cy="3348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74040" y="1342800"/>
              <a:ext cx="1440" cy="3312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02480" y="1356840"/>
              <a:ext cx="3240" cy="334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48560" y="1368000"/>
              <a:ext cx="4680" cy="3348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195760" y="609120"/>
              <a:ext cx="5220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19800" y="510840"/>
              <a:ext cx="11160" cy="6984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97840" y="482400"/>
              <a:ext cx="166680" cy="205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73800" y="482400"/>
              <a:ext cx="100080" cy="3168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99280" y="482400"/>
              <a:ext cx="128520" cy="31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05760" y="572760"/>
              <a:ext cx="160200" cy="2700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42200" y="510840"/>
              <a:ext cx="7920" cy="6984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3800" y="826920"/>
              <a:ext cx="27000" cy="298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184960" y="595080"/>
              <a:ext cx="0" cy="23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91440" y="610920"/>
              <a:ext cx="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186040" y="614160"/>
              <a:ext cx="1908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8189640" y="610920"/>
              <a:ext cx="2376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204040" y="596160"/>
              <a:ext cx="648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192880" y="614160"/>
              <a:ext cx="3960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56520" y="614160"/>
              <a:ext cx="14040" cy="20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35640" y="512280"/>
              <a:ext cx="100080" cy="6984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30960" y="340920"/>
              <a:ext cx="131760" cy="13176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92880" y="748800"/>
              <a:ext cx="144360" cy="20664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72200" y="934560"/>
              <a:ext cx="235080" cy="18288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9720" y="1001520"/>
              <a:ext cx="133560" cy="13320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48320" y="936360"/>
              <a:ext cx="88920" cy="14760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91280" y="745920"/>
              <a:ext cx="301680" cy="28404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16720" y="1002960"/>
              <a:ext cx="103320" cy="8244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91160" y="1052280"/>
              <a:ext cx="10332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91240" y="1087200"/>
              <a:ext cx="30240" cy="46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300880" y="1015560"/>
              <a:ext cx="19080" cy="3816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332560" y="1040760"/>
              <a:ext cx="19080" cy="3636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362800" y="1060200"/>
              <a:ext cx="19080" cy="3960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389800" y="1082160"/>
              <a:ext cx="15840" cy="3780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94520" y="757080"/>
              <a:ext cx="42840" cy="6336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35640" y="610920"/>
              <a:ext cx="320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8152920" y="596160"/>
              <a:ext cx="3492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70560" y="60912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52080" y="6076800"/>
            <a:ext cx="3055320" cy="48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695160"/>
            <a:ext cx="85500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1560" bIns="61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FINA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170160" y="1954080"/>
          <a:ext cx="2819520" cy="33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0160" y="1954080"/>
                    <a:ext cx="281952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04920" y="5095800"/>
            <a:ext cx="85500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1560" bIns="61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6681"/>
                </a:solidFill>
                <a:latin typeface="Arial"/>
              </a:rPr>
              <a:t>View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1760" y="4039200"/>
            <a:ext cx="81655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he correct chapter, section, paragrap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ub-paragraph for 20 different finance 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W DoDFMR 7000.14-R, Vol. 7A, with no 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70%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47280" y="74520"/>
            <a:ext cx="67377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7360" y="1796760"/>
            <a:ext cx="2075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CONDITIONS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69880" y="838080"/>
            <a:ext cx="135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ACTION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5760" y="3673080"/>
            <a:ext cx="1937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STANDARDS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85320" y="1219680"/>
            <a:ext cx="44960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earch Financ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800" y="2210400"/>
            <a:ext cx="8153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ituation describing a finance action, DoDFMR 7000.14-R, Vol. 7A, and standard office supplies and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82720" y="111240"/>
            <a:ext cx="63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oDFMR 7000.14-R, Volume 7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3560" y="2347920"/>
            <a:ext cx="6328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46360" y="2949480"/>
            <a:ext cx="1917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1512720"/>
            <a:ext cx="8153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NE REGULATION FOR ENTIRE D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TUTORY (U.S. LA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VIDES POLICY AND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TES WHO, WHAT, AND WHEN FOR 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ITLEMENTS AND DE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57080" y="86040"/>
            <a:ext cx="4563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oDFMR CHAP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447920"/>
            <a:ext cx="175248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01-21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22-24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25-31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2-37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8-40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1-43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4-54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55-64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838080"/>
            <a:ext cx="815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64 CHAP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24160" y="1447920"/>
            <a:ext cx="64771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Basic and Special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Incentive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Allow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scellaneous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adets, Students, Academy Offi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Allotments of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ductions and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Reserve and National Guard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29000" y="86040"/>
            <a:ext cx="50763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oDFMR APPEND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17524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920880"/>
            <a:ext cx="815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3 APPE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1676520"/>
            <a:ext cx="64771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omparabl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omparable G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773000" y="86040"/>
            <a:ext cx="61311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oDFMR OTHER S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1676520"/>
            <a:ext cx="761976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ummary of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Figures/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671280" y="892440"/>
            <a:ext cx="41605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010101A.1.a.(1)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24560" y="86040"/>
            <a:ext cx="78595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ARAGRAPH NUMBERING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08000" y="1981440"/>
            <a:ext cx="22478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CHAP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63360" y="3048120"/>
            <a:ext cx="2159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7640" y="4114800"/>
            <a:ext cx="298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37520" y="5181840"/>
            <a:ext cx="3890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UBPARA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6346080" y="451440"/>
            <a:ext cx="228600" cy="2220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20840"/>
              <a:gd name="textAreaBottom" fmla="*/ 216324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9"/>
                </a:lnTo>
                <a:cubicBezTo>
                  <a:pt x="10800" y="9879"/>
                  <a:pt x="5400" y="10779"/>
                  <a:pt x="0" y="10779"/>
                </a:cubicBezTo>
                <a:cubicBezTo>
                  <a:pt x="5400" y="10779"/>
                  <a:pt x="10800" y="11679"/>
                  <a:pt x="10800" y="1257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4958640" y="1327680"/>
            <a:ext cx="228600" cy="468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9"/>
                </a:lnTo>
                <a:cubicBezTo>
                  <a:pt x="10800" y="9879"/>
                  <a:pt x="5400" y="10779"/>
                  <a:pt x="0" y="10779"/>
                </a:cubicBezTo>
                <a:cubicBezTo>
                  <a:pt x="5400" y="10779"/>
                  <a:pt x="10800" y="11679"/>
                  <a:pt x="10800" y="1257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444200" y="1327680"/>
            <a:ext cx="228600" cy="468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9"/>
                </a:lnTo>
                <a:cubicBezTo>
                  <a:pt x="10800" y="9879"/>
                  <a:pt x="5400" y="10779"/>
                  <a:pt x="0" y="10779"/>
                </a:cubicBezTo>
                <a:cubicBezTo>
                  <a:pt x="5400" y="10779"/>
                  <a:pt x="10800" y="11679"/>
                  <a:pt x="10800" y="1257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910680" y="1327680"/>
            <a:ext cx="228600" cy="468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68360"/>
              <a:gd name="textAreaBottom" fmla="*/ 45648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9"/>
                </a:lnTo>
                <a:cubicBezTo>
                  <a:pt x="10800" y="9879"/>
                  <a:pt x="5400" y="10779"/>
                  <a:pt x="0" y="10779"/>
                </a:cubicBezTo>
                <a:cubicBezTo>
                  <a:pt x="5400" y="10779"/>
                  <a:pt x="10800" y="11679"/>
                  <a:pt x="10800" y="1257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5" idx="1"/>
            <a:endCxn id="288" idx="3"/>
          </p:cNvCxnSpPr>
          <p:nvPr/>
        </p:nvCxnSpPr>
        <p:spPr>
          <a:xfrm rot="5400000">
            <a:off x="3396600" y="1631880"/>
            <a:ext cx="558000" cy="697680"/>
          </a:xfrm>
          <a:prstGeom prst="bentConnector2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4" idx="1"/>
            <a:endCxn id="289" idx="3"/>
          </p:cNvCxnSpPr>
          <p:nvPr/>
        </p:nvCxnSpPr>
        <p:spPr>
          <a:xfrm rot="5400000">
            <a:off x="3040920" y="1809360"/>
            <a:ext cx="1624680" cy="1408680"/>
          </a:xfrm>
          <a:prstGeom prst="bentConnector2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3" idx="1"/>
            <a:endCxn id="290" idx="3"/>
          </p:cNvCxnSpPr>
          <p:nvPr/>
        </p:nvCxnSpPr>
        <p:spPr>
          <a:xfrm rot="5400000">
            <a:off x="3222000" y="2543040"/>
            <a:ext cx="2691720" cy="1008720"/>
          </a:xfrm>
          <a:prstGeom prst="bentConnector2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2" idx="1"/>
            <a:endCxn id="291" idx="3"/>
          </p:cNvCxnSpPr>
          <p:nvPr/>
        </p:nvCxnSpPr>
        <p:spPr>
          <a:xfrm rot="5400000">
            <a:off x="3864600" y="2865600"/>
            <a:ext cx="3758400" cy="1430640"/>
          </a:xfrm>
          <a:prstGeom prst="bentConnector2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1312200" y="5616720"/>
            <a:ext cx="41605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010101A.1.a.(1)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63320" y="2416320"/>
            <a:ext cx="7056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5040" y="3483000"/>
            <a:ext cx="12301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47120" y="4550040"/>
            <a:ext cx="17542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01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16520" y="86040"/>
            <a:ext cx="547596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ECISION LOG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38080" y="1009800"/>
            <a:ext cx="9068040" cy="7010280"/>
            <a:chOff x="838080" y="1009800"/>
            <a:chExt cx="9068040" cy="7010280"/>
          </a:xfrm>
        </p:grpSpPr>
        <p:graphicFrame>
          <p:nvGraphicFramePr>
            <p:cNvPr id="306" name=""/>
            <p:cNvGraphicFramePr/>
            <p:nvPr/>
          </p:nvGraphicFramePr>
          <p:xfrm>
            <a:off x="838080" y="1009800"/>
            <a:ext cx="2248200" cy="10857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009800"/>
                      <a:ext cx="224820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838080" y="1924200"/>
            <a:ext cx="9068040" cy="60958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1924200"/>
                      <a:ext cx="9068040" cy="609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61760" y="4039200"/>
            <a:ext cx="81655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he correct chapter, section, paragrap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ub-paragraph for 20 different finance 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W DoDFMR 7000.14-R, Vol. 7A, with no l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70%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47280" y="74520"/>
            <a:ext cx="67377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7360" y="1796760"/>
            <a:ext cx="2075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CONDITIONS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9880" y="838080"/>
            <a:ext cx="13503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ACTION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75760" y="3673080"/>
            <a:ext cx="1937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 Rounded MT Bold"/>
              </a:rPr>
              <a:t>STANDARDS</a:t>
            </a:r>
            <a:r>
              <a:rPr b="1" lang="en-US" sz="22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85320" y="1219680"/>
            <a:ext cx="44960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earch Financ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6800" y="2210400"/>
            <a:ext cx="81532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ituation describing a finance action, DoDFMR 7000.14-R, Vol. 7A, and standard office supplies and equi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2T16:34:46Z</dcterms:created>
  <dc:creator>Soldier Support Institute</dc:creator>
  <dc:description/>
  <dc:language>en-US</dc:language>
  <cp:lastModifiedBy>Administrator</cp:lastModifiedBy>
  <cp:lastPrinted>2000-03-14T21:18:59Z</cp:lastPrinted>
  <dcterms:modified xsi:type="dcterms:W3CDTF">2005-04-06T14:24:13Z</dcterms:modified>
  <cp:revision>41</cp:revision>
  <dc:subject/>
  <dc:title>RESEARCH</dc:title>
</cp:coreProperties>
</file>